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F60-168B-4BD4-9E17-086282EF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BE4-D777-40C2-A81A-909780DE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3F0-ADBF-4E2B-ABFB-7BCBFC1C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533-FCEE-4C89-9E57-D94F002C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D40D-6A45-4299-8826-22E9D458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9A0-BA4A-4D12-914D-89C3E08C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0EFB-ECFF-487C-879C-84A4276D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A147-ACD3-43E1-83C8-8BC40A70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FE44-65C2-4AA4-BAEB-1678C480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B24-32B5-4A3A-B600-B6BD1613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C2C-4729-4EB5-8433-D8CCB07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D5A-CFA9-47FE-9419-F16475C0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ECCC-DA68-417B-9126-4F863DF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B518-D717-45AF-B79D-85CD74A4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AFDD-B975-4621-B64C-64122D39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9EBF-2388-4833-9EC3-22FC718E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EF4D-31CC-4185-A2D8-FF8062CE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8A5-B62F-444C-87F9-6D1E83B2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8F7-AE20-4F83-A6B5-068F748C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954-6A7E-45FE-BB62-43F7AE3D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E14-635E-4DEB-99BC-8F011756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D15-C186-4BED-A7B5-B3DEAFF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FB4-7D13-4B39-A75B-08C412E3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B67-E638-430F-BA10-8142A8B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06DF-13D6-4BE7-8FDF-F6E80B2EB6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BEF-47BB-43A6-AE3A-C8EFC463E1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16" name="_s59448"/>
            <p:cNvCxnSpPr>
              <a:stCxn id="117" idx="0"/>
              <a:endCxn id="118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_s59434"/>
            <p:cNvCxnSpPr>
              <a:stCxn id="120" idx="0"/>
              <a:endCxn id="118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_s59425"/>
            <p:cNvCxnSpPr>
              <a:stCxn id="122" idx="0"/>
              <a:endCxn id="118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_s59423"/>
            <p:cNvCxnSpPr>
              <a:stCxn id="124" idx="0"/>
              <a:endCxn id="118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8" name="_s59419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59420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59422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59433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59447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Rough Endoplasmic Reticulum"/>
          <p:cNvPicPr/>
          <p:nvPr/>
        </p:nvPicPr>
        <p:blipFill>
          <a:blip r:embed="rId2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Smooth Endoplasmic Reticulum"/>
          <p:cNvPicPr/>
          <p:nvPr/>
        </p:nvPicPr>
        <p:blipFill>
          <a:blip r:embed="rId3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Central Vacuole"/>
          <p:cNvPicPr/>
          <p:nvPr/>
        </p:nvPicPr>
        <p:blipFill>
          <a:blip r:embed="rId2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nbdoe</cp:lastModifiedBy>
  <dcterms:modified xsi:type="dcterms:W3CDTF">2008-02-18T20:42:52Z</dcterms:modified>
  <cp:revision>9</cp:revision>
  <dc:subject/>
  <dc:title>“Cell Structure”  Pages 41 – 45</dc:title>
</cp:coreProperties>
</file>